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82EA-F18E-486B-ADE9-23D647D365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B41-3EC9-4C2A-9EDD-9C7EA988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94C-E3BF-440D-9813-3BAB0D7A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DFD-D7D7-4402-BA03-C3E463B9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AB7-67ED-4EA7-926E-8658CE21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ED5-64B8-4B97-8C8A-5983ED33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FA6-C9F2-4024-A639-3B0717A2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9A7-A2C5-427B-A2C2-58510ADD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E03-3657-4F9D-8844-4CDD89DA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3A6-16BB-412C-8B8E-36D71D01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656-D1BE-444B-8F38-5B5311E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F9C-96A1-493C-9C3D-6BD793BF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DAF-F6BA-4403-B4E2-9827E416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C039-605F-4DF7-BB26-5D5B0FF0B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RomaK</cp:lastModifiedBy>
  <dcterms:modified xsi:type="dcterms:W3CDTF">2015-09-04T09:33:55Z</dcterms:modified>
  <cp:revision>22</cp:revision>
  <dc:subject/>
  <dc:title>The French and Indian War</dc:title>
</cp:coreProperties>
</file>